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A95E-D1F8-4958-A59B-BA8E17CDA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8159-8492-4329-BAD9-9D12715D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2052-31A2-4841-A390-8814000DD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FC09-DDF8-4F7C-9470-9CDDB2A6B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4D31-0871-4FC7-B61C-298BE04E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25A0-C4D9-493F-9E94-94BBA23C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2B74-24C8-4A86-9DB3-9CB9E4A5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4569-9C18-4843-B1A2-B10CADC4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76FB-AC47-4AFD-954C-06CE3C1F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D7FE-84AB-4F6D-BD94-7C707703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B38D-360E-4023-9A55-9FEE7AD6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E7D7-1BBC-46B9-B073-B2B379EA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7C5B-072E-439A-B906-5A7C65C566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7E46-1525-4D54-801A-EE7008F209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6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7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9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0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3"/>
          <p:cNvSpPr/>
          <p:nvPr/>
        </p:nvSpPr>
        <p:spPr>
          <a:xfrm>
            <a:off x="0" y="6324480"/>
            <a:ext cx="9144000" cy="520920"/>
          </a:xfrm>
          <a:prstGeom prst="pie">
            <a:avLst/>
          </a:prstGeom>
          <a:solidFill>
            <a:srgbClr val="feba12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alibri"/>
                <a:ea typeface="宋体"/>
              </a:rPr>
              <a:t>New</a:t>
            </a:r>
            <a:r>
              <a:rPr b="0" lang="en-US" sz="1800" spc="-1" strike="noStrike">
                <a:solidFill>
                  <a:srgbClr val="00b05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b050"/>
                </a:solidFill>
                <a:latin typeface="Calibri"/>
                <a:ea typeface="宋体"/>
              </a:rPr>
              <a:t>Perspectives</a:t>
            </a:r>
            <a:r>
              <a:rPr b="0" lang="en-US" sz="1800" spc="-1" strike="noStrike">
                <a:solidFill>
                  <a:srgbClr val="00b05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b050"/>
                </a:solidFill>
                <a:latin typeface="Calibri"/>
                <a:ea typeface="宋体"/>
              </a:rPr>
              <a:t>on</a:t>
            </a:r>
            <a:r>
              <a:rPr b="0" lang="en-US" sz="1800" spc="-1" strike="noStrike">
                <a:solidFill>
                  <a:srgbClr val="00b05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b050"/>
                </a:solidFill>
                <a:latin typeface="Calibri"/>
                <a:ea typeface="宋体"/>
              </a:rPr>
              <a:t>Microsoft</a:t>
            </a:r>
            <a:r>
              <a:rPr b="0" lang="en-US" sz="1800" spc="-1" strike="noStrike">
                <a:solidFill>
                  <a:srgbClr val="00b05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b050"/>
                </a:solidFill>
                <a:latin typeface="Calibri"/>
                <a:ea typeface="宋体"/>
              </a:rPr>
              <a:t>Excel</a:t>
            </a:r>
            <a:r>
              <a:rPr b="0" lang="en-US" sz="1800" spc="-1" strike="noStrike">
                <a:solidFill>
                  <a:srgbClr val="00b05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b050"/>
                </a:solidFill>
                <a:latin typeface="Calibri"/>
                <a:ea typeface="宋体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6515280" y="216000"/>
            <a:ext cx="2489040" cy="330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0" y="2870280"/>
            <a:ext cx="9144000" cy="186696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1042560" y="1066680"/>
            <a:ext cx="7326720" cy="17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2044800"/>
                <a:tab algn="l" pos="2654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           </a:t>
            </a:r>
            <a:r>
              <a:rPr b="1" lang="en-US" sz="3900" spc="-1" strike="noStrike">
                <a:solidFill>
                  <a:srgbClr val="00b050"/>
                </a:solidFill>
                <a:latin typeface="Calibri"/>
                <a:ea typeface="宋体"/>
              </a:rPr>
              <a:t>MSOffice Excel - Part 3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99"/>
              </a:lnSpc>
              <a:tabLst>
                <a:tab algn="l" pos="0"/>
                <a:tab algn="l" pos="2044800"/>
                <a:tab algn="l" pos="2654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b050"/>
                </a:solidFill>
                <a:latin typeface="Calibri"/>
                <a:ea typeface="宋体"/>
              </a:rPr>
              <a:t>Calculating</a:t>
            </a:r>
            <a:r>
              <a:rPr b="1" lang="en-US" sz="3900" spc="-1" strike="noStrike">
                <a:solidFill>
                  <a:srgbClr val="00b05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00b050"/>
                </a:solidFill>
                <a:latin typeface="Calibri"/>
                <a:ea typeface="宋体"/>
              </a:rPr>
              <a:t>Data</a:t>
            </a:r>
            <a:r>
              <a:rPr b="1" lang="en-US" sz="3900" spc="-1" strike="noStrike">
                <a:solidFill>
                  <a:srgbClr val="00b05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00b050"/>
                </a:solidFill>
                <a:latin typeface="Calibri"/>
                <a:ea typeface="宋体"/>
              </a:rPr>
              <a:t>with</a:t>
            </a:r>
            <a:r>
              <a:rPr b="1" lang="en-US" sz="3900" spc="-1" strike="noStrike">
                <a:solidFill>
                  <a:srgbClr val="00b05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00b050"/>
                </a:solidFill>
                <a:latin typeface="Calibri"/>
                <a:ea typeface="宋体"/>
              </a:rPr>
              <a:t>Formulas</a:t>
            </a:r>
            <a:r>
              <a:rPr b="1" lang="en-US" sz="3900" spc="-1" strike="noStrike">
                <a:solidFill>
                  <a:srgbClr val="00b05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00b050"/>
                </a:solidFill>
                <a:latin typeface="Calibri"/>
                <a:ea typeface="宋体"/>
              </a:rPr>
              <a:t>and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2044800"/>
                <a:tab algn="l" pos="2654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alibri"/>
                <a:ea typeface="宋体"/>
              </a:rPr>
              <a:t>	</a:t>
            </a:r>
            <a:r>
              <a:rPr b="1" lang="en-US" sz="1800" spc="-1" strike="noStrike">
                <a:solidFill>
                  <a:srgbClr val="00b050"/>
                </a:solidFill>
                <a:latin typeface="Calibri"/>
                <a:ea typeface="宋体"/>
              </a:rPr>
              <a:t>	</a:t>
            </a:r>
            <a:r>
              <a:rPr b="1" lang="en-US" sz="3900" spc="-1" strike="noStrike">
                <a:solidFill>
                  <a:srgbClr val="00b050"/>
                </a:solidFill>
                <a:latin typeface="Calibri"/>
                <a:ea typeface="宋体"/>
              </a:rPr>
              <a:t>Function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C:\Users\PCS\Desktop\téléchargement.jpg"/>
          <p:cNvPicPr/>
          <p:nvPr/>
        </p:nvPicPr>
        <p:blipFill>
          <a:blip r:embed="rId3"/>
          <a:stretch/>
        </p:blipFill>
        <p:spPr>
          <a:xfrm>
            <a:off x="7289640" y="725400"/>
            <a:ext cx="89568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2"/>
          <a:stretch/>
        </p:blipFill>
        <p:spPr>
          <a:xfrm>
            <a:off x="596880" y="1739880"/>
            <a:ext cx="7975800" cy="3606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"/>
          <p:cNvSpPr/>
          <p:nvPr/>
        </p:nvSpPr>
        <p:spPr>
          <a:xfrm>
            <a:off x="531000" y="406440"/>
            <a:ext cx="5936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Exce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Func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Categ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876240" y="1434960"/>
            <a:ext cx="7429680" cy="4749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"/>
          <p:cNvSpPr/>
          <p:nvPr/>
        </p:nvSpPr>
        <p:spPr>
          <a:xfrm>
            <a:off x="534600" y="406440"/>
            <a:ext cx="35665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Exce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"/>
          <p:cNvPicPr/>
          <p:nvPr/>
        </p:nvPicPr>
        <p:blipFill>
          <a:blip r:embed="rId2"/>
          <a:stretch/>
        </p:blipFill>
        <p:spPr>
          <a:xfrm>
            <a:off x="584280" y="3035160"/>
            <a:ext cx="7937280" cy="3086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"/>
          <p:cNvSpPr/>
          <p:nvPr/>
        </p:nvSpPr>
        <p:spPr>
          <a:xfrm>
            <a:off x="611280" y="139680"/>
            <a:ext cx="6994440" cy="11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Entering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Function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with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the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Quick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Analysi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Too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"/>
          <p:cNvSpPr/>
          <p:nvPr/>
        </p:nvSpPr>
        <p:spPr>
          <a:xfrm>
            <a:off x="510840" y="1320840"/>
            <a:ext cx="7957440" cy="14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Qui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alys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o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gener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lum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ow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umma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tatistic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s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alyz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"/>
          <p:cNvSpPr/>
          <p:nvPr/>
        </p:nvSpPr>
        <p:spPr>
          <a:xfrm>
            <a:off x="512280" y="520560"/>
            <a:ext cx="7598880" cy="40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i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dvant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feren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Valu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s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vis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s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asi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di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ls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lac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si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es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(mu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clu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arenthe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Box 1"/>
          <p:cNvSpPr/>
          <p:nvPr/>
        </p:nvSpPr>
        <p:spPr>
          <a:xfrm>
            <a:off x="8325000" y="5079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"/>
          <p:cNvSpPr/>
          <p:nvPr/>
        </p:nvSpPr>
        <p:spPr>
          <a:xfrm>
            <a:off x="631440" y="584280"/>
            <a:ext cx="7881120" cy="51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Choosing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the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Right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Summary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Funct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VERAG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verag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sampl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Susceptibl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extremel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larg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small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valu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MEDIA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Whe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nclude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ew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extremel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larg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extremel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small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value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a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hav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potential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ske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resul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MOD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alculat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mos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ommo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val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"/>
          <p:cNvSpPr/>
          <p:nvPr/>
        </p:nvSpPr>
        <p:spPr>
          <a:xfrm>
            <a:off x="534600" y="406440"/>
            <a:ext cx="46209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Insert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"/>
          <p:cNvSpPr/>
          <p:nvPr/>
        </p:nvSpPr>
        <p:spPr>
          <a:xfrm>
            <a:off x="551520" y="1384200"/>
            <a:ext cx="8066520" cy="32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oss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atego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se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ialo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o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articul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y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irect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"/>
          <p:cNvPicPr/>
          <p:nvPr/>
        </p:nvPicPr>
        <p:blipFill>
          <a:blip r:embed="rId2"/>
          <a:stretch/>
        </p:blipFill>
        <p:spPr>
          <a:xfrm>
            <a:off x="622440" y="3187800"/>
            <a:ext cx="7861320" cy="31114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Box 1"/>
          <p:cNvSpPr/>
          <p:nvPr/>
        </p:nvSpPr>
        <p:spPr>
          <a:xfrm>
            <a:off x="568800" y="495360"/>
            <a:ext cx="814608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Using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the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Insert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Function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Dialog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Bo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ganiz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ateg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clud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eat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oca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erfo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articul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alc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"/>
          <p:cNvPicPr/>
          <p:nvPr/>
        </p:nvPicPr>
        <p:blipFill>
          <a:blip r:embed="rId2"/>
          <a:stretch/>
        </p:blipFill>
        <p:spPr>
          <a:xfrm>
            <a:off x="1282680" y="2819520"/>
            <a:ext cx="6578640" cy="3416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TextBox 1"/>
          <p:cNvSpPr/>
          <p:nvPr/>
        </p:nvSpPr>
        <p:spPr>
          <a:xfrm>
            <a:off x="607320" y="190440"/>
            <a:ext cx="806868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2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Using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the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Function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Library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to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Insert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Funct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99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rgu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ialo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o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pens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is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rgu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ssocia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i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"/>
          <p:cNvSpPr/>
          <p:nvPr/>
        </p:nvSpPr>
        <p:spPr>
          <a:xfrm>
            <a:off x="556560" y="571680"/>
            <a:ext cx="7471800" cy="53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Understand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Cel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co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alyz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n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fer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i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m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erfo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alcul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yp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l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bsol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ix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"/>
          <p:cNvSpPr/>
          <p:nvPr/>
        </p:nvSpPr>
        <p:spPr>
          <a:xfrm>
            <a:off x="527040" y="406440"/>
            <a:ext cx="60325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Us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Relativ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"/>
          <p:cNvSpPr/>
          <p:nvPr/>
        </p:nvSpPr>
        <p:spPr>
          <a:xfrm>
            <a:off x="513720" y="1397160"/>
            <a:ext cx="8002440" cy="37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fer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ppea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she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(B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lway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terpre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l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(relative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oc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ntai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hang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mul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pi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oth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gro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llow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qui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gene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ow/colum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itho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vis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m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547200" y="406440"/>
            <a:ext cx="2436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544680" y="1346040"/>
            <a:ext cx="142560" cy="22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"/>
          <p:cNvSpPr/>
          <p:nvPr/>
        </p:nvSpPr>
        <p:spPr>
          <a:xfrm>
            <a:off x="865080" y="1409760"/>
            <a:ext cx="735012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s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rien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ransl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qu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nderst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yn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n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mul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i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Qu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61200" y="3683160"/>
            <a:ext cx="852660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alys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n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i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se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ia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han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feren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etwe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la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bsol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"/>
          <p:cNvSpPr/>
          <p:nvPr/>
        </p:nvSpPr>
        <p:spPr>
          <a:xfrm>
            <a:off x="8965080" y="6566040"/>
            <a:ext cx="784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"/>
          <p:cNvPicPr/>
          <p:nvPr/>
        </p:nvPicPr>
        <p:blipFill>
          <a:blip r:embed="rId2"/>
          <a:stretch/>
        </p:blipFill>
        <p:spPr>
          <a:xfrm>
            <a:off x="1434960" y="1371600"/>
            <a:ext cx="6426360" cy="4800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TextBox 1"/>
          <p:cNvSpPr/>
          <p:nvPr/>
        </p:nvSpPr>
        <p:spPr>
          <a:xfrm>
            <a:off x="632520" y="431640"/>
            <a:ext cx="801864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Formula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Using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a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Relative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Refer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"/>
          <p:cNvSpPr/>
          <p:nvPr/>
        </p:nvSpPr>
        <p:spPr>
          <a:xfrm>
            <a:off x="527760" y="406440"/>
            <a:ext cx="62215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Us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Absolut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"/>
          <p:cNvSpPr/>
          <p:nvPr/>
        </p:nvSpPr>
        <p:spPr>
          <a:xfrm>
            <a:off x="49320" y="1460520"/>
            <a:ext cx="8562960" cy="54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fer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mai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ix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mul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pi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$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efo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a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lum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esign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($B$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n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valu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i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w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s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fer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ppropri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mul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du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mou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valu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hanged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m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as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pda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f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/>
          <p:cNvPicPr/>
          <p:nvPr/>
        </p:nvPicPr>
        <p:blipFill>
          <a:blip r:embed="rId2"/>
          <a:stretch/>
        </p:blipFill>
        <p:spPr>
          <a:xfrm>
            <a:off x="1663560" y="1359000"/>
            <a:ext cx="6121440" cy="48639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"/>
          <p:cNvSpPr/>
          <p:nvPr/>
        </p:nvSpPr>
        <p:spPr>
          <a:xfrm>
            <a:off x="597240" y="139680"/>
            <a:ext cx="5764680" cy="11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Formula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Using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an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Absolut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Referenc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"/>
          <p:cNvSpPr/>
          <p:nvPr/>
        </p:nvSpPr>
        <p:spPr>
          <a:xfrm>
            <a:off x="527400" y="406440"/>
            <a:ext cx="5613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Us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Mixe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"/>
          <p:cNvSpPr/>
          <p:nvPr/>
        </p:nvSpPr>
        <p:spPr>
          <a:xfrm>
            <a:off x="495720" y="1359000"/>
            <a:ext cx="8063640" cy="26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nta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o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la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bsolu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ock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a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fer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h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th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a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$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efo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ith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fer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($B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$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2"/>
          <a:stretch/>
        </p:blipFill>
        <p:spPr>
          <a:xfrm>
            <a:off x="1968480" y="1282680"/>
            <a:ext cx="5854680" cy="49402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"/>
          <p:cNvSpPr/>
          <p:nvPr/>
        </p:nvSpPr>
        <p:spPr>
          <a:xfrm>
            <a:off x="519480" y="406440"/>
            <a:ext cx="5806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Us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Mixe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TextBox 1"/>
          <p:cNvSpPr/>
          <p:nvPr/>
        </p:nvSpPr>
        <p:spPr>
          <a:xfrm>
            <a:off x="183600" y="330120"/>
            <a:ext cx="8458920" cy="65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2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When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to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Use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Relative,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Absolute,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an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Mixed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Referenc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Relativ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referen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Repea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sam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ormul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with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ell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differ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loca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bsolut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referen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Differen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ormula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refe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sam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Mixe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referen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Seldo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use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the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a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whe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reating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able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alculate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valu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U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4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ke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ycl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rough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differen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ype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referen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"/>
          <p:cNvPicPr/>
          <p:nvPr/>
        </p:nvPicPr>
        <p:blipFill>
          <a:blip r:embed="rId2"/>
          <a:stretch/>
        </p:blipFill>
        <p:spPr>
          <a:xfrm>
            <a:off x="2298600" y="1206360"/>
            <a:ext cx="4622760" cy="49276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"/>
          <p:cNvSpPr/>
          <p:nvPr/>
        </p:nvSpPr>
        <p:spPr>
          <a:xfrm>
            <a:off x="527400" y="406440"/>
            <a:ext cx="43682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3.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Look-u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" descr=""/>
          <p:cNvPicPr/>
          <p:nvPr/>
        </p:nvPicPr>
        <p:blipFill>
          <a:blip r:embed="rId2"/>
          <a:stretch/>
        </p:blipFill>
        <p:spPr>
          <a:xfrm>
            <a:off x="1981080" y="1206360"/>
            <a:ext cx="5257800" cy="49276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1"/>
          <p:cNvSpPr/>
          <p:nvPr/>
        </p:nvSpPr>
        <p:spPr>
          <a:xfrm>
            <a:off x="521640" y="406440"/>
            <a:ext cx="6830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Logic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a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Looku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"/>
          <p:cNvSpPr/>
          <p:nvPr/>
        </p:nvSpPr>
        <p:spPr>
          <a:xfrm>
            <a:off x="606960" y="139680"/>
            <a:ext cx="6799680" cy="11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Entering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Data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and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Formula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with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AutoFil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"/>
          <p:cNvSpPr/>
          <p:nvPr/>
        </p:nvSpPr>
        <p:spPr>
          <a:xfrm>
            <a:off x="523440" y="1384200"/>
            <a:ext cx="7907040" cy="31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i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hand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p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mul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nditio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o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ffici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wo-ste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roc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py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efault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utoFi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p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o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nt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mat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igi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an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elec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3" descr=""/>
          <p:cNvPicPr/>
          <p:nvPr/>
        </p:nvPicPr>
        <p:blipFill>
          <a:blip r:embed="rId2"/>
          <a:stretch/>
        </p:blipFill>
        <p:spPr>
          <a:xfrm>
            <a:off x="444600" y="1968480"/>
            <a:ext cx="8140680" cy="26668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314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"/>
          <p:cNvSpPr/>
          <p:nvPr/>
        </p:nvSpPr>
        <p:spPr>
          <a:xfrm>
            <a:off x="606960" y="139680"/>
            <a:ext cx="6799680" cy="11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Entering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Data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and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Formula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with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AutoFil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508680" y="546120"/>
            <a:ext cx="7491960" cy="45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utoFi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o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n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mul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mple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ispla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ur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i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i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eekda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i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U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UN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8965080" y="6566040"/>
            <a:ext cx="784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" descr=""/>
          <p:cNvPicPr/>
          <p:nvPr/>
        </p:nvPicPr>
        <p:blipFill>
          <a:blip r:embed="rId2"/>
          <a:stretch/>
        </p:blipFill>
        <p:spPr>
          <a:xfrm>
            <a:off x="457200" y="2527200"/>
            <a:ext cx="8102520" cy="19814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324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1"/>
          <p:cNvSpPr/>
          <p:nvPr/>
        </p:nvSpPr>
        <p:spPr>
          <a:xfrm>
            <a:off x="606960" y="139680"/>
            <a:ext cx="6799680" cy="11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Entering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Data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and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Formula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with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AutoFil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"/>
          <p:cNvSpPr/>
          <p:nvPr/>
        </p:nvSpPr>
        <p:spPr>
          <a:xfrm>
            <a:off x="511200" y="1308240"/>
            <a:ext cx="8045640" cy="9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u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i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p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utt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pecif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p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" descr=""/>
          <p:cNvPicPr/>
          <p:nvPr/>
        </p:nvPicPr>
        <p:blipFill>
          <a:blip r:embed="rId2"/>
          <a:stretch/>
        </p:blipFill>
        <p:spPr>
          <a:xfrm>
            <a:off x="1434960" y="2273400"/>
            <a:ext cx="5892840" cy="24382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1"/>
          <p:cNvSpPr/>
          <p:nvPr/>
        </p:nvSpPr>
        <p:spPr>
          <a:xfrm>
            <a:off x="505080" y="177840"/>
            <a:ext cx="7410240" cy="21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Entering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Data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and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Formula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with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AutoFil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99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utoFi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re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er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umb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es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as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1"/>
          <p:cNvSpPr/>
          <p:nvPr/>
        </p:nvSpPr>
        <p:spPr>
          <a:xfrm>
            <a:off x="507240" y="4724280"/>
            <a:ext cx="6935760" cy="9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er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ialo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o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o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m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" descr=""/>
          <p:cNvPicPr/>
          <p:nvPr/>
        </p:nvPicPr>
        <p:blipFill>
          <a:blip r:embed="rId2"/>
          <a:stretch/>
        </p:blipFill>
        <p:spPr>
          <a:xfrm>
            <a:off x="660240" y="1663560"/>
            <a:ext cx="7823520" cy="35308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346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"/>
          <p:cNvSpPr/>
          <p:nvPr/>
        </p:nvSpPr>
        <p:spPr>
          <a:xfrm>
            <a:off x="606960" y="139680"/>
            <a:ext cx="6799680" cy="11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Entering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Data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and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Formula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with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AutoFil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" descr=""/>
          <p:cNvPicPr/>
          <p:nvPr/>
        </p:nvPicPr>
        <p:blipFill>
          <a:blip r:embed="rId2"/>
          <a:stretch/>
        </p:blipFill>
        <p:spPr>
          <a:xfrm>
            <a:off x="1270080" y="2362320"/>
            <a:ext cx="6743520" cy="37591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1"/>
          <p:cNvSpPr/>
          <p:nvPr/>
        </p:nvSpPr>
        <p:spPr>
          <a:xfrm>
            <a:off x="523080" y="406440"/>
            <a:ext cx="67896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i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Dat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1"/>
          <p:cNvSpPr/>
          <p:nvPr/>
        </p:nvSpPr>
        <p:spPr>
          <a:xfrm>
            <a:off x="506160" y="1308240"/>
            <a:ext cx="8106480" cy="9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chedul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etermi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y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ee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rta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cc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366" name="TextBox 1"/>
          <p:cNvSpPr/>
          <p:nvPr/>
        </p:nvSpPr>
        <p:spPr>
          <a:xfrm>
            <a:off x="546120" y="139680"/>
            <a:ext cx="8191080" cy="26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343080"/>
                <a:tab algn="l" pos="77850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Display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th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Curr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Dat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i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343080"/>
                <a:tab algn="l" pos="77850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343080"/>
                <a:tab algn="l" pos="77850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th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TODA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343080"/>
                <a:tab algn="l" pos="77850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a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boo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clu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ur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77850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DA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ispla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77850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ur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sh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"/>
          <p:cNvSpPr/>
          <p:nvPr/>
        </p:nvSpPr>
        <p:spPr>
          <a:xfrm>
            <a:off x="513360" y="114480"/>
            <a:ext cx="764748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Display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th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Curr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Dat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i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th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TODA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ser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da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1"/>
          <p:cNvSpPr/>
          <p:nvPr/>
        </p:nvSpPr>
        <p:spPr>
          <a:xfrm>
            <a:off x="189360" y="2019240"/>
            <a:ext cx="8193960" cy="48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Selec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you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wish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dat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ppea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ormula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ab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Librar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group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lic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Dat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&amp;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im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butto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displa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dat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im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unction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lic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DAY.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rgument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dialog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bo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pen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ndicate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a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DA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require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n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rgument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lic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button.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ormul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=TODAY(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entere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selecte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ell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"/>
          <p:cNvSpPr/>
          <p:nvPr/>
        </p:nvSpPr>
        <p:spPr>
          <a:xfrm>
            <a:off x="538560" y="406440"/>
            <a:ext cx="3304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Count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1"/>
          <p:cNvSpPr/>
          <p:nvPr/>
        </p:nvSpPr>
        <p:spPr>
          <a:xfrm>
            <a:off x="507960" y="1409760"/>
            <a:ext cx="8191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w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un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s—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U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UN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U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all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h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a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an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nta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umb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(becau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to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umer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valu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OUN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doe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no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oun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blan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ell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ell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a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ontai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ex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1"/>
          <p:cNvSpPr/>
          <p:nvPr/>
        </p:nvSpPr>
        <p:spPr>
          <a:xfrm>
            <a:off x="538560" y="406440"/>
            <a:ext cx="3304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Count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1"/>
          <p:cNvSpPr/>
          <p:nvPr/>
        </p:nvSpPr>
        <p:spPr>
          <a:xfrm>
            <a:off x="514440" y="1434960"/>
            <a:ext cx="8001360" cy="29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UN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kn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h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a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n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ntries—wheth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o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ntr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umb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es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ext—yo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UN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hi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all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onblan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OUNT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doe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no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oun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blan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el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403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1"/>
          <p:cNvSpPr/>
          <p:nvPr/>
        </p:nvSpPr>
        <p:spPr>
          <a:xfrm>
            <a:off x="556200" y="546120"/>
            <a:ext cx="7675920" cy="45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i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Logic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ogic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uil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ecision-mak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apabil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i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tate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ith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uppor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a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og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s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clud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"/>
          <p:cNvPicPr/>
          <p:nvPr/>
        </p:nvPicPr>
        <p:blipFill>
          <a:blip r:embed="rId2"/>
          <a:stretch/>
        </p:blipFill>
        <p:spPr>
          <a:xfrm>
            <a:off x="1168560" y="2603520"/>
            <a:ext cx="6883200" cy="21463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"/>
          <p:cNvSpPr/>
          <p:nvPr/>
        </p:nvSpPr>
        <p:spPr>
          <a:xfrm>
            <a:off x="537480" y="406440"/>
            <a:ext cx="5275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Comparis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"/>
          <p:cNvSpPr/>
          <p:nvPr/>
        </p:nvSpPr>
        <p:spPr>
          <a:xfrm>
            <a:off x="547200" y="406440"/>
            <a:ext cx="2436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493920" y="1384200"/>
            <a:ext cx="8156160" cy="31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val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as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n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erfo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xa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at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ook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i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VLOOK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erfo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hat-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alys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ri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8965080" y="6566040"/>
            <a:ext cx="784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635040" y="3492360"/>
            <a:ext cx="7848720" cy="25275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423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1"/>
          <p:cNvSpPr/>
          <p:nvPr/>
        </p:nvSpPr>
        <p:spPr>
          <a:xfrm>
            <a:off x="510840" y="469800"/>
            <a:ext cx="765252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Us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th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I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tur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val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tat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r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tur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val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tat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1"/>
          <p:cNvSpPr/>
          <p:nvPr/>
        </p:nvSpPr>
        <p:spPr>
          <a:xfrm>
            <a:off x="544680" y="2793960"/>
            <a:ext cx="7016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1"/>
          <p:cNvSpPr/>
          <p:nvPr/>
        </p:nvSpPr>
        <p:spPr>
          <a:xfrm>
            <a:off x="1433880" y="2882880"/>
            <a:ext cx="423144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logical_test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[value_if_tru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,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1"/>
          <p:cNvSpPr/>
          <p:nvPr/>
        </p:nvSpPr>
        <p:spPr>
          <a:xfrm>
            <a:off x="5933160" y="2882880"/>
            <a:ext cx="233244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[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value_if_fals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435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1"/>
          <p:cNvSpPr/>
          <p:nvPr/>
        </p:nvSpPr>
        <p:spPr>
          <a:xfrm>
            <a:off x="525600" y="406440"/>
            <a:ext cx="5604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Us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Looku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1"/>
          <p:cNvSpPr/>
          <p:nvPr/>
        </p:nvSpPr>
        <p:spPr>
          <a:xfrm>
            <a:off x="33840" y="1460520"/>
            <a:ext cx="8619120" cy="54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ook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i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valu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ab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se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oth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oc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she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u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mu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4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Oft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yo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ne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chan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rel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criter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m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chan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o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peri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im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l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search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pl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u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popul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ano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4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example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stud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numer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g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percentag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m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chan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hrough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semes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correspo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chan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al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appli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let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g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A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B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C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3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1"/>
          <p:cNvSpPr/>
          <p:nvPr/>
        </p:nvSpPr>
        <p:spPr>
          <a:xfrm>
            <a:off x="536760" y="406440"/>
            <a:ext cx="3257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Looku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1"/>
          <p:cNvSpPr/>
          <p:nvPr/>
        </p:nvSpPr>
        <p:spPr>
          <a:xfrm>
            <a:off x="501480" y="1320840"/>
            <a:ext cx="8166600" cy="14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tor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trie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all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ook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abl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ook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ganiz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umb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ateg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3" descr=""/>
          <p:cNvPicPr/>
          <p:nvPr/>
        </p:nvPicPr>
        <p:blipFill>
          <a:blip r:embed="rId2"/>
          <a:stretch/>
        </p:blipFill>
        <p:spPr>
          <a:xfrm>
            <a:off x="1168560" y="2247840"/>
            <a:ext cx="6883200" cy="28576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454" name="TextBox 1"/>
          <p:cNvSpPr/>
          <p:nvPr/>
        </p:nvSpPr>
        <p:spPr>
          <a:xfrm>
            <a:off x="8325000" y="5079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1"/>
          <p:cNvSpPr/>
          <p:nvPr/>
        </p:nvSpPr>
        <p:spPr>
          <a:xfrm>
            <a:off x="517320" y="88920"/>
            <a:ext cx="808452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Func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Argument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dialo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bo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f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th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VLOOKU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1"/>
          <p:cNvSpPr/>
          <p:nvPr/>
        </p:nvSpPr>
        <p:spPr>
          <a:xfrm>
            <a:off x="526680" y="406440"/>
            <a:ext cx="64015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Perform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hat-I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1"/>
          <p:cNvSpPr/>
          <p:nvPr/>
        </p:nvSpPr>
        <p:spPr>
          <a:xfrm>
            <a:off x="495720" y="1422360"/>
            <a:ext cx="8165520" cy="41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343080"/>
                <a:tab algn="l" pos="39384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hat-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alys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e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xplo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39384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hang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valu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39384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alcula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valu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39384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hat-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alys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ccu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39384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alcula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oa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ortg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343080"/>
                <a:tab algn="l" pos="39384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4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W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wi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m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lo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pay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inter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r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6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343080"/>
                <a:tab algn="l" pos="39384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al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7%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343080"/>
                <a:tab algn="l" pos="39384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4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W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wi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lo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$10,0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d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343080"/>
                <a:tab algn="l" pos="39384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$20,0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dow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473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1"/>
          <p:cNvSpPr/>
          <p:nvPr/>
        </p:nvSpPr>
        <p:spPr>
          <a:xfrm>
            <a:off x="506520" y="520560"/>
            <a:ext cx="7673760" cy="39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Tri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a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a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erfo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hat-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alys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hang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o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valu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h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ff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alcula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su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rial-and-err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etho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guesswor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stim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hi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valu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han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h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u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482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1"/>
          <p:cNvSpPr/>
          <p:nvPr/>
        </p:nvSpPr>
        <p:spPr>
          <a:xfrm>
            <a:off x="525240" y="406440"/>
            <a:ext cx="37375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Us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Go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Se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1"/>
          <p:cNvSpPr/>
          <p:nvPr/>
        </p:nvSpPr>
        <p:spPr>
          <a:xfrm>
            <a:off x="495360" y="1409760"/>
            <a:ext cx="817884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ee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utom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rial-and-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roc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llow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pecif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val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alcula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tem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hi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eter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val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eed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a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go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o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ay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ppos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ri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rr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ee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llow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sw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alcul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ssoci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variab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rr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3" descr=""/>
          <p:cNvPicPr/>
          <p:nvPr/>
        </p:nvPicPr>
        <p:blipFill>
          <a:blip r:embed="rId2"/>
          <a:stretch/>
        </p:blipFill>
        <p:spPr>
          <a:xfrm>
            <a:off x="939960" y="2921040"/>
            <a:ext cx="7340400" cy="15112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493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1"/>
          <p:cNvSpPr/>
          <p:nvPr/>
        </p:nvSpPr>
        <p:spPr>
          <a:xfrm>
            <a:off x="521640" y="406440"/>
            <a:ext cx="49258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Go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See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Dialo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2197080" y="1282680"/>
            <a:ext cx="4686480" cy="4915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"/>
          <p:cNvSpPr/>
          <p:nvPr/>
        </p:nvSpPr>
        <p:spPr>
          <a:xfrm>
            <a:off x="531360" y="406440"/>
            <a:ext cx="63036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Visu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Overview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"/>
          <p:cNvSpPr/>
          <p:nvPr/>
        </p:nvSpPr>
        <p:spPr>
          <a:xfrm>
            <a:off x="8965080" y="6566040"/>
            <a:ext cx="784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2120760" y="1359000"/>
            <a:ext cx="4978440" cy="4851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609120" y="431640"/>
            <a:ext cx="734112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Cell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Reference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and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Excel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Function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"/>
          <p:cNvSpPr/>
          <p:nvPr/>
        </p:nvSpPr>
        <p:spPr>
          <a:xfrm>
            <a:off x="8965080" y="6566040"/>
            <a:ext cx="784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"/>
          <p:cNvSpPr/>
          <p:nvPr/>
        </p:nvSpPr>
        <p:spPr>
          <a:xfrm>
            <a:off x="526320" y="406440"/>
            <a:ext cx="7621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Mak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book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User-Friend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"/>
          <p:cNvSpPr/>
          <p:nvPr/>
        </p:nvSpPr>
        <p:spPr>
          <a:xfrm>
            <a:off x="56160" y="1523880"/>
            <a:ext cx="86000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rea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xplanato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a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s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a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nderst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nt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she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dd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xplai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ndustr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jargo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(Industry-specifi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erms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echnical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erm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Wha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being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alculate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wh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ormula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use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alcula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"/>
          <p:cNvSpPr/>
          <p:nvPr/>
        </p:nvSpPr>
        <p:spPr>
          <a:xfrm>
            <a:off x="8965080" y="6566040"/>
            <a:ext cx="784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660240" y="2349360"/>
            <a:ext cx="7912440" cy="3822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"/>
          <p:cNvSpPr/>
          <p:nvPr/>
        </p:nvSpPr>
        <p:spPr>
          <a:xfrm>
            <a:off x="530280" y="457200"/>
            <a:ext cx="7816680" cy="18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Mak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book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User-Friend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mat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ty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ifferenti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"/>
          <p:cNvSpPr/>
          <p:nvPr/>
        </p:nvSpPr>
        <p:spPr>
          <a:xfrm>
            <a:off x="8965080" y="6566040"/>
            <a:ext cx="784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901800" y="4025880"/>
            <a:ext cx="6095880" cy="393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3"/>
          <a:stretch/>
        </p:blipFill>
        <p:spPr>
          <a:xfrm>
            <a:off x="825480" y="5118120"/>
            <a:ext cx="7264440" cy="457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4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"/>
          <p:cNvSpPr/>
          <p:nvPr/>
        </p:nvSpPr>
        <p:spPr>
          <a:xfrm>
            <a:off x="523440" y="546120"/>
            <a:ext cx="7779960" cy="46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i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Qui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a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alcul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umma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llow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u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(synta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pecif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h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houl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Gener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ynt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qua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racke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dic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"/>
          <p:cNvSpPr/>
          <p:nvPr/>
        </p:nvSpPr>
        <p:spPr>
          <a:xfrm>
            <a:off x="8965080" y="6566040"/>
            <a:ext cx="784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PCS</dc:creator>
  <dc:description/>
  <dc:language>en-US</dc:language>
  <cp:lastModifiedBy>PCS</cp:lastModifiedBy>
  <dcterms:modified xsi:type="dcterms:W3CDTF">2014-03-01T09:39:35Z</dcterms:modified>
  <cp:revision>6</cp:revision>
  <dc:subject/>
  <dc:title>Slide 1</dc:title>
</cp:coreProperties>
</file>